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6BB-3ED2-4CF5-887A-C767AD33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D5D-7421-4E7A-9037-14D0C6C28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E66-A6CC-4C24-A5D3-FA176629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7E2-F05A-4F97-8AD9-7308974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C51-C188-4AE2-8F76-E722E82C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E78-4DBE-49EB-90CB-F8B2BF56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123-30D4-49F2-A8C7-4ACF3634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18E-EAF6-4727-B8BC-A564E9F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D6A-C1E4-402F-BA3B-CA673449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774-98FB-476B-9A56-3369F023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63C-942B-4D16-A778-088218A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52E-66C1-41BB-BD88-F851101E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55F-6296-4EEE-9B1B-8A32D7D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AEF-13A6-401E-9BDA-B3C4BFEA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669-1046-47AE-8B01-AE5BE5E6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rrah Shab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152280" y="3352680"/>
            <a:ext cx="1600200" cy="8510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s es Farrah.Yo tengo quince años.No tengo hermanas.Yo vivir es Astor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191120"/>
            <a:ext cx="1600200" cy="276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350532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25Z</dcterms:modified>
  <cp:revision>102</cp:revision>
  <dc:subject/>
  <dc:title>Profile</dc:title>
</cp:coreProperties>
</file>